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9463-9DAE-479B-BB4F-6A79E09DC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555A-A992-4B1F-85A7-C87E83073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474EC7-214E-4A0D-9810-05D806A40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6CC2CD-9A5B-4463-9622-651D516BE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BB4061-68BD-4E91-96C1-FAEF7DC55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8480D7-E934-4D1F-B552-CE4E9E35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8B5CA1-0CED-4551-A3FC-11D430DB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C90485-1671-4933-865B-C2C6B03A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4E17A1-FDFE-4E81-AD87-5B7D7691C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A8F854-0A5D-46DA-ABA8-20E53E8A4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E2CEFE-9A16-4CB7-B5B6-B65FAE95F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761C5C-434C-44CD-9A48-076C5CBD0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EE2C-26CB-472D-B563-5F896E3AF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8189C7-F038-4405-AFE5-D6FFC6269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86206D-FE55-433B-A22B-C7C6266CA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CEF40A-6B08-4079-97FB-2C7842D33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E27876-A08A-4518-BE3D-AF88B662F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B30B20-A1CD-4319-9FFA-7228B2662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BBF6B4-7F51-44D9-901B-0DD0C0D4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223423-23CF-47DC-A772-2064C78D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90DE98-AC7C-47FB-9BD3-414F319B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C323C8-5AC3-4209-A666-0FF18A0A1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E0D0DE-2DF4-4C2F-A2A7-6488D59B2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419B-39B0-4C6D-B510-15C49005B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27A414-E12E-4A65-8380-48C5B0E26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97E570-DE35-4D2A-AC8F-0A790CCBD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268074-2C53-45D8-8BB1-986A2702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78B1AA-D7E8-4EF4-966E-2D8D01F7D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19EBAE-8CE8-4EB1-A691-9571AD71C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C36847-2E82-4561-886E-F4468FD58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87A5F7-9D57-49A4-B359-FA14A1AB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403D3F-4757-49DC-AD88-FFC37B41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BBC1A9-EF16-4208-BEA6-F93C1E2D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E0D591-7A3B-446D-A884-3706EA85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786CD-C79A-4B05-839F-40AA98A29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E58BC8-10E2-4171-8A3E-1712B19AA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40B13E-DED0-4D3B-B08C-6B4ACE2CC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F147AC-0DA3-4DC5-9B1E-2020E1712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50FDA7-9619-48FB-BF08-0AD13ED4F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E00F34-C3E5-4C79-A45B-2E94633E0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994EB4-2E54-4F1D-8C0E-004D21459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38CD9D-1D8A-4DAC-917C-CD81AFE00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10F8A2-B2EA-4F72-85E5-1F70EE115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029B76-AA97-4A09-B8AD-3E9B3F9ED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32D5B5-5867-49FF-8F9D-23944BA8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BF2C8-837D-4FBC-A9D6-8DA4D471C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5B24E3-421C-47F6-8177-0F48DF4F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B5883D-403E-4BE2-A271-22E0D2A9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417E58-5403-405D-A76E-9A26BAD24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2FEB8A-6DA1-4EE2-822C-BE7C854B2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325F7E-B594-4217-BC41-98890B5EF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608375-A073-42BE-BAEB-C7AEE69D0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4B8393-1EBC-467D-AAB9-CE5FC3FDD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A5C552-E816-43F1-87F3-16638AD68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02ABB8-0DAB-4397-95C2-784D4729A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C53B90-3056-4144-9CAD-E0DD6D88D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26C29-4599-4A1A-990C-4ED29765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92812E-2796-47F1-8FC9-F35C6901E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ECA5D2-68E1-4DE7-A77F-65C295A2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2D02FC-6FD1-4B87-A7B7-4C11E3C3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88D359-D94F-4E29-8702-C463BA2E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9A9632-9618-4F4F-9207-0992C338C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862228-40C6-4170-A1F1-A70BB68F0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3EDF6D-E2A6-468E-B844-4FF1481D0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DECEC9-9A62-4B49-9131-3E659A2D9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37A89F-84B7-4695-A24C-03EBB8CFB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F6663E-A6B0-4570-8FF0-BA68B28F6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8F5AD-76F9-4AAD-9083-FDAB6FC0C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448C31-2C2D-4BA4-912C-9C6604C09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A68AC0-FFB6-438F-939E-6A11C2493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38D9B2-A07F-475B-9497-CE0FDD3C8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88871B-00A8-409A-AB74-DF47EFF7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4E4282-F945-4565-B014-290DB17C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05B52B-0A5A-400B-80C8-4025447C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900ECB-1D0B-470C-B82A-355471059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E59861-1E56-4C1E-B71B-C30B16C04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79FD34-9BD6-477B-8CFE-C6654A910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B4C7CF-A003-4CAC-8C10-33E97A70D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574D6-E310-4ECF-8FC8-283AEBFF8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3FC41F-D72D-4B5E-8CCE-73C8AA445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B02B59-ACCA-4A56-AC62-4618ECDA0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521E91-D34A-4385-8AA3-A42DD5696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0FAE17-B072-43FE-8F67-9C54B220B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6093E8-37A1-4A7F-B5DA-B401156D9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DD46A4-ED2A-4550-AA6F-B6C91E59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381FE0-7826-42B2-9047-028CDE93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E5C155-EF07-4464-B517-AB976B8A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D0E389-7537-4F7D-947B-A946EEA8C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515276-A46C-476E-9065-5F3EA8B64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2ECA6-9C20-42AD-B85D-393E16164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26B95D-4183-45F6-80AA-01245BDF7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8B33F8-476A-4A8A-A670-3FA48FB32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D27418-29FB-450D-8D42-EE3417D28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FFDCE6-ACD8-4336-98BF-88A3C7023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28615D-E537-4A1B-8FC6-9A14F9F01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506457-304E-484D-B1BF-426627EF2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B1B4A4-A78B-4A76-B9CF-E575FDA95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DD6A1D-03BE-4A7A-8AC5-05EE0D66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CE9836-5E9A-4C6B-9E51-D398C9A3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4A5FC7-55C7-49E0-A500-00909637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6D605-6579-41FE-9E7D-F7910356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D7FEB6-0BEE-42AB-9644-783A6B208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5C645E-34F3-45D6-83B7-BB3649DA8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12C2A3-4910-487D-894E-AA846C721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7D5BC5-1224-497F-8FD6-ADDCF34F7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B2A28F-9625-4E1E-A8B3-9D6F2F67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F40BBB-8376-409B-9A28-960FB746B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4BAB8F-E1B5-466B-BDA5-485477524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94A2C3-082E-4F21-BA77-56FEA4E98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14FA8B-4690-4A9D-85C5-747F63B79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26AFDF-F5F4-4305-ACD5-43325FB1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4237-C601-4C59-B62D-C6A9BB4AA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196FB-8822-4FF1-A87C-330AA7D3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4DB328-B97A-423B-A109-9CB4B20A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600524-F224-4E42-9E48-FC474F71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3B2771-4A11-4A52-AA1C-8DB4413B3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CFF8F6-0AB2-4470-82D4-A33F00FA1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0F6BB3-1FAB-47CE-A653-F63737854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4E8515-7F94-4D69-A156-4325772F7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68D83E-FB7C-457B-A410-54D814748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5459E3-061A-40D2-9338-A1B12C5E8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D2F12A-1FC3-443C-84E9-462B2FF31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909746-16E8-4640-A639-336C971CD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76ADE-540B-4985-8E37-7F6FE77A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A3A835-26C6-46E5-ADE3-E427BF552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B4AB65-5CD4-410C-A789-9F52DB05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EE4862-FBCD-497B-B5EC-A2306E1A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9B7C80-8324-449E-9CA2-23404251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E76835-3966-4569-95F3-C3C6AA1FB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66281F-1404-4A88-9321-57462ED1F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077CDB-9909-4287-8AFC-F1C920533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A71217-2D00-493F-B98F-455C14274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800A41-0C60-44E1-BC3D-903E25886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1B22AB-960C-4033-94A8-6E664A8F1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692BA-B819-4C50-AE2A-F957B2003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65D519-1317-4FF5-9AEE-0237CA10E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04EAFB-24E0-4AD4-9371-6B6F625CE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2F5769-9776-43AC-A49F-32B53F152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FA5FF5-6224-415A-AEE0-8B3518AC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265BF2-E46E-44FB-89BF-637DD800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454EFB-B674-4E2B-86E4-12162785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919EBF-6C1A-40CB-848F-D4ED109F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18E9A8-A91C-4598-9DB5-124909844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283534-175B-4828-8AE6-851CA55BB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7ED7AA-5B30-4C22-9D97-A00832885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3E47F-EA38-4318-9D95-569E91809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50212B-16F1-4990-AB21-EDADE140C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816D68-90AB-441E-817A-478F52288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79087D-91E5-4673-A300-E4E3E0F46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7DFD12-D6EC-4C84-8C12-F32F98A9B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38B043-BCA0-4856-A4B0-9505BA31D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37D708-FA0A-46F6-8851-F2495899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A2EA0C-1700-4638-AC0A-1433B7F6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786EEF-3403-415D-9789-E004D165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AC89EB-2B05-450A-BCFA-DBF2F268B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F76FE3-ACA5-4EC0-9213-80B405084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D5891-1934-4989-996C-B99E60869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07A38F-765B-495C-9654-A6D937409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FF7173-286D-45C6-94C7-5407248A4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BBA375-2F0F-4615-B396-2EDD0342B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8A07F4-0A9F-4E03-A86F-96604BFD0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5935F4-F98B-4A8D-B464-40C69A1A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7F99A4-E499-4948-89B4-D443E15D5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03AE05-00B4-4ED5-98E0-FFB321665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8A75FA-555E-42E4-8156-C6653291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06FA28-1E24-4998-8F17-F7221C04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CC7767-22E4-48AD-8C82-34104347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1A755-42AA-4F1E-BE61-B0DFEC42F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E11470-E677-4C81-89CB-D1100BF7B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2E51B0-8FCE-4448-B5DB-6BCDA4810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3A24C0-5527-46A7-8A2B-F96E9A4ED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4F6EC-4B78-4A20-84A1-45AF4D6FD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E0EC4-E0DC-4926-9B77-583C36831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BFF48-CB5B-4E8F-B5E8-B8B730EA9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BA185-EF78-4E1D-8E96-49300886A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6036-A057-492B-9AD8-362098684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4DDE8-4554-4119-8E54-6A6D5E423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6966D-56DA-488F-B189-C36B048E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7F1F6-428E-4F58-8F26-C5DDD5F3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12FD9-1905-4D9C-81A7-36935E1B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166C2-6215-4078-B07E-8383414D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56A8B-4691-4759-9BD6-92421CBF9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D64B4-13FD-45E6-B200-79187C21E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88251-C3E5-4661-BD19-E120CE692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F4757-CB4B-4866-9BEC-C14FE1E2B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95006-2D28-4CE5-9ED9-F07772717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4808-6CC9-4CC0-9FC0-FD2D9C4A2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3948A-6834-40CD-B73D-EE6805138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140CF-7A63-4652-81E4-63AFB0FAD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A6527-ADB6-4DCA-A730-52960AB5C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E88D3-A539-4101-8823-C2F29696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B492A-FBA9-42D8-B2E1-EDE5FB84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F900E-2A96-413E-9D4E-482CE054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CC9A6-6971-4A96-97B4-33571CE0B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BBB2E-F745-44E2-933F-5FCE92353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CBFD4-BB11-4926-AB61-1CF6970C3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1DD49-39C4-4333-A944-C534793E3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5ADD-72FC-4F34-962A-21C44A4E6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A17BC-A9F9-4D2E-BC7F-4A998827D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BDDC0-4178-481E-9021-2FDF54CB9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DC984-A193-431F-81D2-F2F82D0ED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56B22-C270-4816-8A32-6DBAEED08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86647-898D-42E4-88FD-39638B6D9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4C416-F287-4939-ADBA-128F78AD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11CD7-0C21-4C6B-A695-5E1AE236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B68F0-2608-4048-872C-2A000036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A3652-8977-4335-A436-85D261D60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BF14F-1943-43FB-8F69-D987818C0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44AE-64FC-4F98-8C90-98DD23F2C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8E103-F3EC-48FE-9D6E-0B68E6C2D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AA38E-44EE-4518-8517-0F2BC4D8A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B2B42-A9FC-4944-A788-4539046BF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BD4424-3490-4691-840F-A41612631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C303C-CC65-4EEC-A30B-355142DC7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5F874-BCAB-486B-850B-F14FED01C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A0407-0F6E-4FC4-AAFA-63006E8CA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88B7B-BBA9-409E-8228-4A555A04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9039BA-1A32-479B-AB6B-43AF0713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DD0DC-16C5-4411-879E-63E5B9F8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6182-C1AF-4FC1-94F2-9CFA6B92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2F372-1303-4159-9A32-9D851D9A2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BD269-EB3E-4FB9-98D0-29EADD07A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3BEAB-A803-48B8-AAEF-B75885B08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881C9D-7357-4CA6-8EE7-BC26B311D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57B413-7642-4528-B1EB-7A939595F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D7DCB-20BF-4867-92A0-D5ED67DB3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694BA1-C0B7-4B41-8171-3B6DE39D4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F2314-43B7-47AB-B204-24DBA5390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A160F-C303-4BC1-B996-133CD6A98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D6B6A-5BEC-42A4-80D1-CE324697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02EE-BA57-4714-84F7-FA97CF77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DB7F6A-3234-4D41-BA2C-5AA72B67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69B0F-DB5D-43FE-92FC-74CDA81B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33B31D-EE57-4F57-A987-C4B635AF0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8398C4-FEE1-402D-8BE6-A4095D337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B0710-324F-4AB9-B31C-0B313CDC1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AAF95-CD4E-4E50-9425-07489F27B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FAFEC6-8CA2-4BCC-B68D-BCE3ABF08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680ADC-F77D-4428-A6AA-818880FDB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FB0867-481F-4636-87AB-1B43478A5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FEABC-024C-4E8E-B587-86727E29C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024A-A9F9-48D0-8362-4908302F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28CEC3-9EED-45B7-880A-5E879094A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64B115-608D-4941-AA33-3777F957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45842F-608F-41FE-AC3F-F19871BD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D9EE1B-C563-4573-B19A-DA1D5311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C347C6-A3C9-456B-A8DA-B14DEBE11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B9B13B-8D9B-4BA1-940B-8BC676724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A720BB-BA8D-400B-949B-B32AA084B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24CD9A-6BE4-4D67-8E2C-2B2A556BA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ED806C-A6B1-44BA-BEB9-D1EE2D19B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0B362E-7720-4B81-8199-F002BEAEC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1042F-D9B7-41AA-A3F7-33FBEFE524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E4BFE-7ED0-40F0-B60C-AEA38E0AA3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F68C4-939C-4BD0-96E8-5DADFFAF9D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17071-8D83-4801-A564-6624D446D6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A5B3E-8DBF-419D-8208-A68E297182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0E993-1E47-4C09-96C7-140816DFB0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46119-2E94-421D-96DB-4FEBABF12A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49B5-2E92-429C-ABD9-E2EDC73F96B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89791-F38A-4335-961C-3F8CCBA2F3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28ED5-693A-4990-82EA-3AA26995E5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BDF31-22AE-4864-A4CC-6BA34521DC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2202-8E6E-4F13-9780-D83119C466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2DE82-E6CE-4042-81B8-296EA1B2C0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3B5D6-FF6A-4797-AD87-475B47C962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101EF-0290-484A-8443-EA0576DFF9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78DC9-6130-4C15-8F72-B67C720D3C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F5144-E884-48A0-A0D1-6724993EEC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5EDB1-EF5A-44BC-921B-66B70E70B6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2E24A-7560-42AA-824F-F63F393622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CBA2A-9531-439B-8626-4E26217274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B92B7-4F00-48E7-83B1-6933E3C792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7D62A-B1FC-4615-9962-ED59EE88FB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90B61-7BC9-49D0-9B41-34C2D0FE49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5B0DC-F356-4DB7-829D-8EDB44FCD4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49CC9-67D4-4A47-9A3B-DDDF036688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743C9-EB70-46DF-ABBC-97E442C2C4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5558B-55AA-41A3-8C9B-3CB88A68C5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0786E-B754-48AD-ABC9-31D9820484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D1835-8AE3-4AC3-BB33-189312C485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CD4F5-67F8-4300-98F5-C55F6800D2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E3A4B-995C-44A8-B55B-2D3E54ECAE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B6264-1C1A-47D4-84E0-5913E5AFA6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A5210-CEB5-4EF5-8F7A-9ABF583C0B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1EE46-0D5D-4E6D-9AD6-B50094BEB8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3F405-7271-4750-ADC6-2051485B65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C0FCE-F9C4-4A58-BA61-B865C5C5F6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5697A-2BF8-4DB2-BB96-4702CB2CB5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DFEF0-5AA3-4D3C-8ABD-DA03BF6765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E46E9-921D-4BE3-AC18-F217041A39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EC068-C215-48FB-942A-70A7B0338D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1090440" y="3043080"/>
            <a:ext cx="6963120" cy="771840"/>
          </a:xfrm>
          <a:prstGeom prst="rect">
            <a:avLst/>
          </a:prstGeom>
          <a:ln w="0">
            <a:noFill/>
          </a:ln>
        </p:spPr>
      </p:pic>
      <p:pic>
        <p:nvPicPr>
          <p:cNvPr id="1025" name="图片 2" descr=""/>
          <p:cNvPicPr/>
          <p:nvPr/>
        </p:nvPicPr>
        <p:blipFill>
          <a:blip r:embed="rId2"/>
          <a:stretch/>
        </p:blipFill>
        <p:spPr>
          <a:xfrm>
            <a:off x="3119400" y="4240080"/>
            <a:ext cx="3160800" cy="7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8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9" name="图片 4100" descr=""/>
          <p:cNvPicPr/>
          <p:nvPr/>
        </p:nvPicPr>
        <p:blipFill>
          <a:blip r:embed="rId2"/>
          <a:stretch/>
        </p:blipFill>
        <p:spPr>
          <a:xfrm>
            <a:off x="347760" y="1752480"/>
            <a:ext cx="8448480" cy="3353040"/>
          </a:xfrm>
          <a:prstGeom prst="rect">
            <a:avLst/>
          </a:prstGeom>
          <a:ln w="0">
            <a:noFill/>
          </a:ln>
        </p:spPr>
      </p:pic>
      <p:sp>
        <p:nvSpPr>
          <p:cNvPr id="1030" name="直接连接符 4101"/>
          <p:cNvSpPr/>
          <p:nvPr/>
        </p:nvSpPr>
        <p:spPr>
          <a:xfrm>
            <a:off x="2627280" y="2852640"/>
            <a:ext cx="1081080" cy="108108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直接连接符 4102"/>
          <p:cNvSpPr/>
          <p:nvPr/>
        </p:nvSpPr>
        <p:spPr>
          <a:xfrm>
            <a:off x="2584440" y="4508640"/>
            <a:ext cx="1079640" cy="7272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直接连接符 4103"/>
          <p:cNvSpPr/>
          <p:nvPr/>
        </p:nvSpPr>
        <p:spPr>
          <a:xfrm flipV="1">
            <a:off x="6156360" y="2997000"/>
            <a:ext cx="1511280" cy="43164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直接连接符 4104"/>
          <p:cNvSpPr/>
          <p:nvPr/>
        </p:nvSpPr>
        <p:spPr>
          <a:xfrm>
            <a:off x="5364000" y="2867040"/>
            <a:ext cx="2232360" cy="99360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6" name="图片 1" descr=""/>
          <p:cNvPicPr/>
          <p:nvPr/>
        </p:nvPicPr>
        <p:blipFill>
          <a:blip r:embed="rId1"/>
          <a:stretch/>
        </p:blipFill>
        <p:spPr>
          <a:xfrm>
            <a:off x="109440" y="890640"/>
            <a:ext cx="8923320" cy="507672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2"/>
          <a:stretch/>
        </p:blipFill>
        <p:spPr>
          <a:xfrm>
            <a:off x="1619280" y="301140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3"/>
          <a:stretch/>
        </p:blipFill>
        <p:spPr>
          <a:xfrm>
            <a:off x="3780000" y="306864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4"/>
          <a:stretch/>
        </p:blipFill>
        <p:spPr>
          <a:xfrm>
            <a:off x="5940360" y="301140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5"/>
          <a:stretch/>
        </p:blipFill>
        <p:spPr>
          <a:xfrm>
            <a:off x="7956720" y="3068640"/>
            <a:ext cx="43164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3" name="图片 1" descr=""/>
          <p:cNvPicPr/>
          <p:nvPr/>
        </p:nvPicPr>
        <p:blipFill>
          <a:blip r:embed="rId1"/>
          <a:stretch/>
        </p:blipFill>
        <p:spPr>
          <a:xfrm>
            <a:off x="57240" y="836640"/>
            <a:ext cx="9029520" cy="56656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2"/>
          <a:stretch/>
        </p:blipFill>
        <p:spPr>
          <a:xfrm>
            <a:off x="8172360" y="321300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3"/>
          <a:stretch/>
        </p:blipFill>
        <p:spPr>
          <a:xfrm>
            <a:off x="8101080" y="4221000"/>
            <a:ext cx="431640" cy="3844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4"/>
          <a:stretch/>
        </p:blipFill>
        <p:spPr>
          <a:xfrm>
            <a:off x="8101080" y="5603760"/>
            <a:ext cx="43164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9" name="图片 1" descr=""/>
          <p:cNvPicPr/>
          <p:nvPr/>
        </p:nvPicPr>
        <p:blipFill>
          <a:blip r:embed="rId1"/>
          <a:stretch/>
        </p:blipFill>
        <p:spPr>
          <a:xfrm>
            <a:off x="352440" y="1976400"/>
            <a:ext cx="8439120" cy="290520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2"/>
          <a:stretch/>
        </p:blipFill>
        <p:spPr>
          <a:xfrm>
            <a:off x="5435640" y="242100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3"/>
          <a:stretch/>
        </p:blipFill>
        <p:spPr>
          <a:xfrm>
            <a:off x="6300720" y="3846600"/>
            <a:ext cx="4320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8:27:06Z</dcterms:modified>
  <cp:revision>3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